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png" ContentType="image/png"/>
  <Override PartName="/ppt/media/image7.jpeg" ContentType="image/jpeg"/>
  <Override PartName="/ppt/media/image13.png" ContentType="image/png"/>
  <Override PartName="/ppt/media/image11.jpeg" ContentType="image/jpeg"/>
  <Override PartName="/ppt/media/image6.jpeg" ContentType="image/jpeg"/>
  <Override PartName="/ppt/media/image10.png" ContentType="image/png"/>
  <Override PartName="/ppt/media/image5.jpeg" ContentType="image/jpeg"/>
  <Override PartName="/ppt/media/image22.png" ContentType="image/png"/>
  <Override PartName="/ppt/media/image19.jpeg" ContentType="image/jpeg"/>
  <Override PartName="/ppt/media/image1.jpeg" ContentType="image/jpeg"/>
  <Override PartName="/ppt/media/image21.png" ContentType="image/png"/>
  <Override PartName="/ppt/media/image4.png" ContentType="image/png"/>
  <Override PartName="/ppt/media/image8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15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74C72-3CC3-4172-BE60-547D89A9F1C5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758C7-1324-4E1D-B700-5C8F795BA364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A6C3F-FC7D-4DF8-A6BF-F65C4768730A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A6BAD-3E7A-4E2D-8927-61661A0DD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4A653-9B51-45F4-97E3-BA0A9023B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6F168-675C-4166-9F38-8372C06B6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465B2-EF8A-448D-9597-1EDB52E61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1FA73-0209-4D09-B60E-4B56BD65A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78659-48CF-40CD-91C1-648AC8A6A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847B9-04A1-4CFB-AF79-F78037AC3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68B8F-F76B-47E5-871A-029EC6B47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E7FA4-9562-4569-A74F-AE0198249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E509F-2982-4DDE-9048-C45F034BF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3D779-6C5C-47B7-A3F7-972797B75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51B1A-AB4F-4470-AD4E-EE987E0C2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A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8CD15-3ABD-40EA-A8EB-CCF80EFC9E82}" type="slidenum">
              <a:rPr b="1" lang="en-A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image" Target="../media/image19.jpeg"/><Relationship Id="rId8" Type="http://schemas.openxmlformats.org/officeDocument/2006/relationships/image" Target="../media/image20.jpe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2349360"/>
            <a:ext cx="9144000" cy="17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0" spc="-1" strike="noStrike">
                <a:solidFill>
                  <a:srgbClr val="3b8a74"/>
                </a:solidFill>
                <a:latin typeface="Abadi MT Condensed Extra Bold"/>
              </a:rPr>
              <a:t>Disability Employment: Partnering for Success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9" name="Group 13"/>
          <p:cNvGrpSpPr/>
          <p:nvPr/>
        </p:nvGrpSpPr>
        <p:grpSpPr>
          <a:xfrm>
            <a:off x="3348000" y="4724280"/>
            <a:ext cx="2664000" cy="1773360"/>
            <a:chOff x="3348000" y="4724280"/>
            <a:chExt cx="2664000" cy="1773360"/>
          </a:xfrm>
        </p:grpSpPr>
        <p:pic>
          <p:nvPicPr>
            <p:cNvPr id="50" name="Picture 6" descr="deewr-logo.jpg"/>
            <p:cNvPicPr/>
            <p:nvPr/>
          </p:nvPicPr>
          <p:blipFill>
            <a:blip r:embed="rId1"/>
            <a:stretch/>
          </p:blipFill>
          <p:spPr>
            <a:xfrm>
              <a:off x="3348000" y="4938480"/>
              <a:ext cx="2664000" cy="155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TextBox 5"/>
            <p:cNvSpPr/>
            <p:nvPr/>
          </p:nvSpPr>
          <p:spPr>
            <a:xfrm>
              <a:off x="3348000" y="4724280"/>
              <a:ext cx="2664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roudly supported by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2" name="Picture 1" descr="AFDO Logo inc text - Colour.JPG"/>
          <p:cNvPicPr/>
          <p:nvPr/>
        </p:nvPicPr>
        <p:blipFill>
          <a:blip r:embed="rId2"/>
          <a:stretch/>
        </p:blipFill>
        <p:spPr>
          <a:xfrm>
            <a:off x="324000" y="260280"/>
            <a:ext cx="3706560" cy="17528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" descr="adde-logo-hires.jpg"/>
          <p:cNvPicPr/>
          <p:nvPr/>
        </p:nvPicPr>
        <p:blipFill>
          <a:blip r:embed="rId3"/>
          <a:stretch/>
        </p:blipFill>
        <p:spPr>
          <a:xfrm>
            <a:off x="4067280" y="549360"/>
            <a:ext cx="491148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2"/>
          <p:cNvSpPr/>
          <p:nvPr/>
        </p:nvSpPr>
        <p:spPr>
          <a:xfrm>
            <a:off x="0" y="0"/>
            <a:ext cx="9144000" cy="14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000" spc="-1" strike="noStrike">
                <a:solidFill>
                  <a:srgbClr val="3b8a74"/>
                </a:solidFill>
                <a:latin typeface="Abadi MT Condensed Extra Bold"/>
              </a:rPr>
              <a:t>Case Studies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Group 4"/>
          <p:cNvGrpSpPr/>
          <p:nvPr/>
        </p:nvGrpSpPr>
        <p:grpSpPr>
          <a:xfrm>
            <a:off x="179280" y="5854680"/>
            <a:ext cx="11585520" cy="959040"/>
            <a:chOff x="179280" y="5854680"/>
            <a:chExt cx="11585520" cy="959040"/>
          </a:xfrm>
        </p:grpSpPr>
        <p:pic>
          <p:nvPicPr>
            <p:cNvPr id="118" name="Picture 8" descr="afdo_logo.png"/>
            <p:cNvPicPr/>
            <p:nvPr/>
          </p:nvPicPr>
          <p:blipFill>
            <a:blip r:embed="rId1"/>
            <a:stretch/>
          </p:blipFill>
          <p:spPr>
            <a:xfrm>
              <a:off x="179280" y="5926680"/>
              <a:ext cx="1152000" cy="887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9" name="Group 6"/>
            <p:cNvGrpSpPr/>
            <p:nvPr/>
          </p:nvGrpSpPr>
          <p:grpSpPr>
            <a:xfrm>
              <a:off x="7740360" y="5854680"/>
              <a:ext cx="4024440" cy="936000"/>
              <a:chOff x="7740360" y="5854680"/>
              <a:chExt cx="4024440" cy="936000"/>
            </a:xfrm>
          </p:grpSpPr>
          <p:pic>
            <p:nvPicPr>
              <p:cNvPr id="120" name="Picture 2" descr="adde logo full.jpg"/>
              <p:cNvPicPr/>
              <p:nvPr/>
            </p:nvPicPr>
            <p:blipFill>
              <a:blip r:embed="rId2"/>
              <a:stretch/>
            </p:blipFill>
            <p:spPr>
              <a:xfrm>
                <a:off x="7740360" y="6022800"/>
                <a:ext cx="3930840" cy="710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1" name="Rectangle 8"/>
              <p:cNvSpPr/>
              <p:nvPr/>
            </p:nvSpPr>
            <p:spPr>
              <a:xfrm>
                <a:off x="8956440" y="5854680"/>
                <a:ext cx="2808360" cy="936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2" name="TextBox 7"/>
          <p:cNvSpPr/>
          <p:nvPr/>
        </p:nvSpPr>
        <p:spPr>
          <a:xfrm>
            <a:off x="539640" y="1341360"/>
            <a:ext cx="8209080" cy="444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hat benefits do you see in the case study that might be relevant to your own workplace?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as appropriate support gained from DES in this case study? If not, what support could have occurred?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hat ideas could you take from this case study to use in your workplace?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hat would be the blockers in your workplace to achieving success?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How could you overcome those blockers?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hat steps could you take to improve the accessibility of your workplace to people with disability?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2"/>
          <p:cNvSpPr/>
          <p:nvPr/>
        </p:nvSpPr>
        <p:spPr>
          <a:xfrm>
            <a:off x="0" y="0"/>
            <a:ext cx="9144000" cy="14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000" spc="-1" strike="noStrike">
                <a:solidFill>
                  <a:srgbClr val="3b8a74"/>
                </a:solidFill>
                <a:latin typeface="Abadi MT Condensed Extra Bold"/>
              </a:rPr>
              <a:t>Reflection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Group 4"/>
          <p:cNvGrpSpPr/>
          <p:nvPr/>
        </p:nvGrpSpPr>
        <p:grpSpPr>
          <a:xfrm>
            <a:off x="179280" y="5854680"/>
            <a:ext cx="11585520" cy="959040"/>
            <a:chOff x="179280" y="5854680"/>
            <a:chExt cx="11585520" cy="959040"/>
          </a:xfrm>
        </p:grpSpPr>
        <p:pic>
          <p:nvPicPr>
            <p:cNvPr id="125" name="Picture 8" descr="afdo_logo.png"/>
            <p:cNvPicPr/>
            <p:nvPr/>
          </p:nvPicPr>
          <p:blipFill>
            <a:blip r:embed="rId1"/>
            <a:stretch/>
          </p:blipFill>
          <p:spPr>
            <a:xfrm>
              <a:off x="179280" y="5926680"/>
              <a:ext cx="1152000" cy="887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6" name="Group 6"/>
            <p:cNvGrpSpPr/>
            <p:nvPr/>
          </p:nvGrpSpPr>
          <p:grpSpPr>
            <a:xfrm>
              <a:off x="7740360" y="5854680"/>
              <a:ext cx="4024440" cy="936000"/>
              <a:chOff x="7740360" y="5854680"/>
              <a:chExt cx="4024440" cy="936000"/>
            </a:xfrm>
          </p:grpSpPr>
          <p:pic>
            <p:nvPicPr>
              <p:cNvPr id="127" name="Picture 2" descr="adde logo full.jpg"/>
              <p:cNvPicPr/>
              <p:nvPr/>
            </p:nvPicPr>
            <p:blipFill>
              <a:blip r:embed="rId2"/>
              <a:stretch/>
            </p:blipFill>
            <p:spPr>
              <a:xfrm>
                <a:off x="7740360" y="6022800"/>
                <a:ext cx="3930840" cy="710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" name="Rectangle 8"/>
              <p:cNvSpPr/>
              <p:nvPr/>
            </p:nvSpPr>
            <p:spPr>
              <a:xfrm>
                <a:off x="8956440" y="5854680"/>
                <a:ext cx="2808360" cy="936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29" name="Picture 1" descr="im an accountant.gif"/>
          <p:cNvPicPr/>
          <p:nvPr/>
        </p:nvPicPr>
        <p:blipFill>
          <a:blip r:embed="rId3"/>
          <a:stretch/>
        </p:blipFill>
        <p:spPr>
          <a:xfrm>
            <a:off x="1547640" y="1197000"/>
            <a:ext cx="6048720" cy="51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2"/>
          <p:cNvSpPr/>
          <p:nvPr/>
        </p:nvSpPr>
        <p:spPr>
          <a:xfrm>
            <a:off x="0" y="0"/>
            <a:ext cx="9144000" cy="14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000" spc="-1" strike="noStrike">
                <a:solidFill>
                  <a:srgbClr val="3b8a74"/>
                </a:solidFill>
                <a:latin typeface="Abadi MT Condensed Extra Bold"/>
              </a:rPr>
              <a:t>Action Planning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Group 4"/>
          <p:cNvGrpSpPr/>
          <p:nvPr/>
        </p:nvGrpSpPr>
        <p:grpSpPr>
          <a:xfrm>
            <a:off x="179280" y="5854680"/>
            <a:ext cx="11585520" cy="959040"/>
            <a:chOff x="179280" y="5854680"/>
            <a:chExt cx="11585520" cy="959040"/>
          </a:xfrm>
        </p:grpSpPr>
        <p:pic>
          <p:nvPicPr>
            <p:cNvPr id="132" name="Picture 8" descr="afdo_logo.png"/>
            <p:cNvPicPr/>
            <p:nvPr/>
          </p:nvPicPr>
          <p:blipFill>
            <a:blip r:embed="rId1"/>
            <a:stretch/>
          </p:blipFill>
          <p:spPr>
            <a:xfrm>
              <a:off x="179280" y="5926680"/>
              <a:ext cx="1152000" cy="887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3" name="Group 6"/>
            <p:cNvGrpSpPr/>
            <p:nvPr/>
          </p:nvGrpSpPr>
          <p:grpSpPr>
            <a:xfrm>
              <a:off x="7740360" y="5854680"/>
              <a:ext cx="4024440" cy="936000"/>
              <a:chOff x="7740360" y="5854680"/>
              <a:chExt cx="4024440" cy="936000"/>
            </a:xfrm>
          </p:grpSpPr>
          <p:pic>
            <p:nvPicPr>
              <p:cNvPr id="134" name="Picture 2" descr="adde logo full.jpg"/>
              <p:cNvPicPr/>
              <p:nvPr/>
            </p:nvPicPr>
            <p:blipFill>
              <a:blip r:embed="rId2"/>
              <a:stretch/>
            </p:blipFill>
            <p:spPr>
              <a:xfrm>
                <a:off x="7740360" y="6022800"/>
                <a:ext cx="3930840" cy="710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5" name="Rectangle 8"/>
              <p:cNvSpPr/>
              <p:nvPr/>
            </p:nvSpPr>
            <p:spPr>
              <a:xfrm>
                <a:off x="8956440" y="5854680"/>
                <a:ext cx="2808360" cy="936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36" name="Picture 3" descr=""/>
          <p:cNvPicPr/>
          <p:nvPr/>
        </p:nvPicPr>
        <p:blipFill>
          <a:blip r:embed="rId3"/>
          <a:stretch/>
        </p:blipFill>
        <p:spPr>
          <a:xfrm>
            <a:off x="1979640" y="1268280"/>
            <a:ext cx="5329080" cy="45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2"/>
          <p:cNvSpPr/>
          <p:nvPr/>
        </p:nvSpPr>
        <p:spPr>
          <a:xfrm>
            <a:off x="0" y="0"/>
            <a:ext cx="9144000" cy="14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000" spc="-1" strike="noStrike">
                <a:solidFill>
                  <a:srgbClr val="3b8a74"/>
                </a:solidFill>
                <a:latin typeface="Abadi MT Condensed Extra Bold"/>
              </a:rPr>
              <a:t>Thank You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Group 4"/>
          <p:cNvGrpSpPr/>
          <p:nvPr/>
        </p:nvGrpSpPr>
        <p:grpSpPr>
          <a:xfrm>
            <a:off x="179280" y="5854680"/>
            <a:ext cx="11585520" cy="959040"/>
            <a:chOff x="179280" y="5854680"/>
            <a:chExt cx="11585520" cy="959040"/>
          </a:xfrm>
        </p:grpSpPr>
        <p:pic>
          <p:nvPicPr>
            <p:cNvPr id="139" name="Picture 8" descr="afdo_logo.png"/>
            <p:cNvPicPr/>
            <p:nvPr/>
          </p:nvPicPr>
          <p:blipFill>
            <a:blip r:embed="rId1"/>
            <a:stretch/>
          </p:blipFill>
          <p:spPr>
            <a:xfrm>
              <a:off x="179280" y="5926680"/>
              <a:ext cx="1152000" cy="887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40" name="Group 6"/>
            <p:cNvGrpSpPr/>
            <p:nvPr/>
          </p:nvGrpSpPr>
          <p:grpSpPr>
            <a:xfrm>
              <a:off x="7740360" y="5854680"/>
              <a:ext cx="4024440" cy="936000"/>
              <a:chOff x="7740360" y="5854680"/>
              <a:chExt cx="4024440" cy="936000"/>
            </a:xfrm>
          </p:grpSpPr>
          <p:pic>
            <p:nvPicPr>
              <p:cNvPr id="141" name="Picture 2" descr="adde logo full.jpg"/>
              <p:cNvPicPr/>
              <p:nvPr/>
            </p:nvPicPr>
            <p:blipFill>
              <a:blip r:embed="rId2"/>
              <a:stretch/>
            </p:blipFill>
            <p:spPr>
              <a:xfrm>
                <a:off x="7740360" y="6022800"/>
                <a:ext cx="3930840" cy="710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2" name="Rectangle 8"/>
              <p:cNvSpPr/>
              <p:nvPr/>
            </p:nvSpPr>
            <p:spPr>
              <a:xfrm>
                <a:off x="8956440" y="5854680"/>
                <a:ext cx="2808360" cy="936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3" name="TextBox 2"/>
          <p:cNvSpPr/>
          <p:nvPr/>
        </p:nvSpPr>
        <p:spPr>
          <a:xfrm>
            <a:off x="684360" y="1557360"/>
            <a:ext cx="7848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Contacts:</a:t>
            </a: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AFD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http://afdo.org.au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03 9662 3324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AD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http://www.adde.org.au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03 9662 3324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DES:</a:t>
            </a: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http://jobsearch.gov.au/provider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Resources: </a:t>
            </a: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http://www.onegroupid.com.au/resources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Feedback: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ease complete and hand in the Feedback Sheets before you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leav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From participating in this workshop, you wil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Improve your understanding of the benefits of employing people with disabi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Improve your understanding of the resources available to support you and your employe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Identify some clear actions to implement within your work are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2"/>
          <p:cNvSpPr/>
          <p:nvPr/>
        </p:nvSpPr>
        <p:spPr>
          <a:xfrm>
            <a:off x="0" y="0"/>
            <a:ext cx="9144000" cy="14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000" spc="-1" strike="noStrike">
                <a:solidFill>
                  <a:srgbClr val="3b8a74"/>
                </a:solidFill>
                <a:latin typeface="Abadi MT Condensed Extra Bold"/>
              </a:rPr>
              <a:t>Workshop Aims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Group 10"/>
          <p:cNvGrpSpPr/>
          <p:nvPr/>
        </p:nvGrpSpPr>
        <p:grpSpPr>
          <a:xfrm>
            <a:off x="179280" y="5805360"/>
            <a:ext cx="11585520" cy="959040"/>
            <a:chOff x="179280" y="5805360"/>
            <a:chExt cx="11585520" cy="959040"/>
          </a:xfrm>
        </p:grpSpPr>
        <p:pic>
          <p:nvPicPr>
            <p:cNvPr id="57" name="Picture 8" descr="afdo_logo.png"/>
            <p:cNvPicPr/>
            <p:nvPr/>
          </p:nvPicPr>
          <p:blipFill>
            <a:blip r:embed="rId1"/>
            <a:stretch/>
          </p:blipFill>
          <p:spPr>
            <a:xfrm>
              <a:off x="179280" y="5877360"/>
              <a:ext cx="1152000" cy="887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8" name="Group 9"/>
            <p:cNvGrpSpPr/>
            <p:nvPr/>
          </p:nvGrpSpPr>
          <p:grpSpPr>
            <a:xfrm>
              <a:off x="7740360" y="5805360"/>
              <a:ext cx="4024440" cy="936000"/>
              <a:chOff x="7740360" y="5805360"/>
              <a:chExt cx="4024440" cy="936000"/>
            </a:xfrm>
          </p:grpSpPr>
          <p:pic>
            <p:nvPicPr>
              <p:cNvPr id="59" name="Picture 2" descr="adde logo full.jpg"/>
              <p:cNvPicPr/>
              <p:nvPr/>
            </p:nvPicPr>
            <p:blipFill>
              <a:blip r:embed="rId2"/>
              <a:stretch/>
            </p:blipFill>
            <p:spPr>
              <a:xfrm>
                <a:off x="7740360" y="5973480"/>
                <a:ext cx="3930840" cy="710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" name="Rectangle 8"/>
              <p:cNvSpPr/>
              <p:nvPr/>
            </p:nvSpPr>
            <p:spPr>
              <a:xfrm>
                <a:off x="8956440" y="5805360"/>
                <a:ext cx="2808360" cy="936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2"/>
          <p:cNvSpPr/>
          <p:nvPr/>
        </p:nvSpPr>
        <p:spPr>
          <a:xfrm>
            <a:off x="0" y="0"/>
            <a:ext cx="9144000" cy="14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000" spc="-1" strike="noStrike">
                <a:solidFill>
                  <a:srgbClr val="3b8a74"/>
                </a:solidFill>
                <a:latin typeface="Abadi MT Condensed Extra Bold"/>
              </a:rPr>
              <a:t>About Us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Group 11"/>
          <p:cNvGrpSpPr/>
          <p:nvPr/>
        </p:nvGrpSpPr>
        <p:grpSpPr>
          <a:xfrm>
            <a:off x="755640" y="1471680"/>
            <a:ext cx="4037760" cy="1924200"/>
            <a:chOff x="755640" y="1471680"/>
            <a:chExt cx="4037760" cy="1924200"/>
          </a:xfrm>
        </p:grpSpPr>
        <p:pic>
          <p:nvPicPr>
            <p:cNvPr id="63" name="Picture 8" descr="afdo_logo.png"/>
            <p:cNvPicPr/>
            <p:nvPr/>
          </p:nvPicPr>
          <p:blipFill>
            <a:blip r:embed="rId1"/>
            <a:stretch/>
          </p:blipFill>
          <p:spPr>
            <a:xfrm>
              <a:off x="755640" y="1471680"/>
              <a:ext cx="2063520" cy="162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TextBox 9"/>
            <p:cNvSpPr/>
            <p:nvPr/>
          </p:nvSpPr>
          <p:spPr>
            <a:xfrm>
              <a:off x="1520280" y="2997360"/>
              <a:ext cx="32731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7fc5b3"/>
                  </a:solidFill>
                  <a:latin typeface="Trebuchet MS"/>
                </a:rPr>
                <a:t>Australian Federation of Disability </a:t>
              </a:r>
              <a:r>
                <a:rPr b="1" lang="en-AU" sz="1000" spc="-1" strike="noStrike">
                  <a:solidFill>
                    <a:srgbClr val="7fc5b3"/>
                  </a:solidFill>
                  <a:latin typeface="Trebuchet MS"/>
                </a:rPr>
                <a:t>Organisations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5" name="Picture 6" descr="deewr-logo.jpg"/>
          <p:cNvPicPr/>
          <p:nvPr/>
        </p:nvPicPr>
        <p:blipFill>
          <a:blip r:embed="rId2"/>
          <a:stretch/>
        </p:blipFill>
        <p:spPr>
          <a:xfrm>
            <a:off x="5580000" y="1739880"/>
            <a:ext cx="2887560" cy="16891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" descr="adde-logo-hires.jpg"/>
          <p:cNvPicPr/>
          <p:nvPr/>
        </p:nvPicPr>
        <p:blipFill>
          <a:blip r:embed="rId3"/>
          <a:stretch/>
        </p:blipFill>
        <p:spPr>
          <a:xfrm>
            <a:off x="1979640" y="4567320"/>
            <a:ext cx="5329080" cy="109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2"/>
          <p:cNvSpPr/>
          <p:nvPr/>
        </p:nvSpPr>
        <p:spPr>
          <a:xfrm>
            <a:off x="0" y="0"/>
            <a:ext cx="9144000" cy="14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000" spc="-1" strike="noStrike">
                <a:solidFill>
                  <a:srgbClr val="3b8a74"/>
                </a:solidFill>
                <a:latin typeface="Abadi MT Condensed Extra Bold"/>
              </a:rPr>
              <a:t>Barriers to Employment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Group 4"/>
          <p:cNvGrpSpPr/>
          <p:nvPr/>
        </p:nvGrpSpPr>
        <p:grpSpPr>
          <a:xfrm>
            <a:off x="179280" y="5854680"/>
            <a:ext cx="11585520" cy="959040"/>
            <a:chOff x="179280" y="5854680"/>
            <a:chExt cx="11585520" cy="959040"/>
          </a:xfrm>
        </p:grpSpPr>
        <p:pic>
          <p:nvPicPr>
            <p:cNvPr id="69" name="Picture 8" descr="afdo_logo.png"/>
            <p:cNvPicPr/>
            <p:nvPr/>
          </p:nvPicPr>
          <p:blipFill>
            <a:blip r:embed="rId1"/>
            <a:stretch/>
          </p:blipFill>
          <p:spPr>
            <a:xfrm>
              <a:off x="179280" y="5926680"/>
              <a:ext cx="1152000" cy="887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0" name="Group 6"/>
            <p:cNvGrpSpPr/>
            <p:nvPr/>
          </p:nvGrpSpPr>
          <p:grpSpPr>
            <a:xfrm>
              <a:off x="7740360" y="5854680"/>
              <a:ext cx="4024440" cy="936000"/>
              <a:chOff x="7740360" y="5854680"/>
              <a:chExt cx="4024440" cy="936000"/>
            </a:xfrm>
          </p:grpSpPr>
          <p:pic>
            <p:nvPicPr>
              <p:cNvPr id="71" name="Picture 2" descr="adde logo full.jpg"/>
              <p:cNvPicPr/>
              <p:nvPr/>
            </p:nvPicPr>
            <p:blipFill>
              <a:blip r:embed="rId2"/>
              <a:stretch/>
            </p:blipFill>
            <p:spPr>
              <a:xfrm>
                <a:off x="7740360" y="6022800"/>
                <a:ext cx="3930840" cy="710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2" name="Rectangle 8"/>
              <p:cNvSpPr/>
              <p:nvPr/>
            </p:nvSpPr>
            <p:spPr>
              <a:xfrm>
                <a:off x="8956440" y="5854680"/>
                <a:ext cx="2808360" cy="936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73" name="Picture 2" descr="UD-Testing-Cartoon.jpg"/>
          <p:cNvPicPr/>
          <p:nvPr/>
        </p:nvPicPr>
        <p:blipFill>
          <a:blip r:embed="rId3"/>
          <a:stretch/>
        </p:blipFill>
        <p:spPr>
          <a:xfrm>
            <a:off x="971640" y="1123920"/>
            <a:ext cx="708984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" name="Group 4"/>
          <p:cNvGrpSpPr/>
          <p:nvPr/>
        </p:nvGrpSpPr>
        <p:grpSpPr>
          <a:xfrm>
            <a:off x="179280" y="5854680"/>
            <a:ext cx="11585520" cy="959040"/>
            <a:chOff x="179280" y="5854680"/>
            <a:chExt cx="11585520" cy="959040"/>
          </a:xfrm>
        </p:grpSpPr>
        <p:pic>
          <p:nvPicPr>
            <p:cNvPr id="75" name="Picture 8" descr="afdo_logo.png"/>
            <p:cNvPicPr/>
            <p:nvPr/>
          </p:nvPicPr>
          <p:blipFill>
            <a:blip r:embed="rId1"/>
            <a:stretch/>
          </p:blipFill>
          <p:spPr>
            <a:xfrm>
              <a:off x="179280" y="5926680"/>
              <a:ext cx="1152000" cy="887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6" name="Group 6"/>
            <p:cNvGrpSpPr/>
            <p:nvPr/>
          </p:nvGrpSpPr>
          <p:grpSpPr>
            <a:xfrm>
              <a:off x="7740360" y="5854680"/>
              <a:ext cx="4024440" cy="936000"/>
              <a:chOff x="7740360" y="5854680"/>
              <a:chExt cx="4024440" cy="936000"/>
            </a:xfrm>
          </p:grpSpPr>
          <p:pic>
            <p:nvPicPr>
              <p:cNvPr id="77" name="Picture 2" descr="adde logo full.jpg"/>
              <p:cNvPicPr/>
              <p:nvPr/>
            </p:nvPicPr>
            <p:blipFill>
              <a:blip r:embed="rId2"/>
              <a:stretch/>
            </p:blipFill>
            <p:spPr>
              <a:xfrm>
                <a:off x="7740360" y="6022800"/>
                <a:ext cx="3930840" cy="710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8" name="Rectangle 8"/>
              <p:cNvSpPr/>
              <p:nvPr/>
            </p:nvSpPr>
            <p:spPr>
              <a:xfrm>
                <a:off x="8956440" y="5854680"/>
                <a:ext cx="2808360" cy="936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79" name="Clip from Talk by the Disability Rights Commission (UK) for Windows.wmv" descr=""/>
          <p:cNvPicPr/>
          <p:nvPr/>
        </p:nvPicPr>
        <p:blipFill>
          <a:blip r:embed="rId3"/>
          <a:stretch/>
        </p:blipFill>
        <p:spPr>
          <a:xfrm>
            <a:off x="3048120" y="228600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67266" fill="hold"/>
                                        <p:tgtEl>
                                          <p:spTgt spid="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79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79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2"/>
          <p:cNvSpPr/>
          <p:nvPr/>
        </p:nvSpPr>
        <p:spPr>
          <a:xfrm>
            <a:off x="0" y="0"/>
            <a:ext cx="9144000" cy="14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000" spc="-1" strike="noStrike">
                <a:solidFill>
                  <a:srgbClr val="3b8a74"/>
                </a:solidFill>
                <a:latin typeface="Abadi MT Condensed Extra Bold"/>
              </a:rPr>
              <a:t>The Business Imperative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Group 4"/>
          <p:cNvGrpSpPr/>
          <p:nvPr/>
        </p:nvGrpSpPr>
        <p:grpSpPr>
          <a:xfrm>
            <a:off x="179280" y="5854680"/>
            <a:ext cx="11585520" cy="959040"/>
            <a:chOff x="179280" y="5854680"/>
            <a:chExt cx="11585520" cy="959040"/>
          </a:xfrm>
        </p:grpSpPr>
        <p:pic>
          <p:nvPicPr>
            <p:cNvPr id="82" name="Picture 8" descr="afdo_logo.png"/>
            <p:cNvPicPr/>
            <p:nvPr/>
          </p:nvPicPr>
          <p:blipFill>
            <a:blip r:embed="rId1"/>
            <a:stretch/>
          </p:blipFill>
          <p:spPr>
            <a:xfrm>
              <a:off x="179280" y="5926680"/>
              <a:ext cx="1152000" cy="887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3" name="Group 6"/>
            <p:cNvGrpSpPr/>
            <p:nvPr/>
          </p:nvGrpSpPr>
          <p:grpSpPr>
            <a:xfrm>
              <a:off x="7740360" y="5854680"/>
              <a:ext cx="4024440" cy="936000"/>
              <a:chOff x="7740360" y="5854680"/>
              <a:chExt cx="4024440" cy="936000"/>
            </a:xfrm>
          </p:grpSpPr>
          <p:pic>
            <p:nvPicPr>
              <p:cNvPr id="84" name="Picture 2" descr="adde logo full.jpg"/>
              <p:cNvPicPr/>
              <p:nvPr/>
            </p:nvPicPr>
            <p:blipFill>
              <a:blip r:embed="rId2"/>
              <a:stretch/>
            </p:blipFill>
            <p:spPr>
              <a:xfrm>
                <a:off x="7740360" y="6022800"/>
                <a:ext cx="3930840" cy="710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" name="Rectangle 8"/>
              <p:cNvSpPr/>
              <p:nvPr/>
            </p:nvSpPr>
            <p:spPr>
              <a:xfrm>
                <a:off x="8956440" y="5854680"/>
                <a:ext cx="2808360" cy="936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86" name="Picture 2" descr="need a ramp.gif"/>
          <p:cNvPicPr/>
          <p:nvPr/>
        </p:nvPicPr>
        <p:blipFill>
          <a:blip r:embed="rId3"/>
          <a:stretch/>
        </p:blipFill>
        <p:spPr>
          <a:xfrm>
            <a:off x="1908000" y="1125360"/>
            <a:ext cx="5256360" cy="555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0" y="0"/>
            <a:ext cx="9144000" cy="14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000" spc="-1" strike="noStrike">
                <a:solidFill>
                  <a:srgbClr val="3b8a74"/>
                </a:solidFill>
                <a:latin typeface="Abadi MT Condensed Extra Bold"/>
              </a:rPr>
              <a:t>Supports Available to Employers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Group 4"/>
          <p:cNvGrpSpPr/>
          <p:nvPr/>
        </p:nvGrpSpPr>
        <p:grpSpPr>
          <a:xfrm>
            <a:off x="179280" y="5854680"/>
            <a:ext cx="11585520" cy="959040"/>
            <a:chOff x="179280" y="5854680"/>
            <a:chExt cx="11585520" cy="959040"/>
          </a:xfrm>
        </p:grpSpPr>
        <p:pic>
          <p:nvPicPr>
            <p:cNvPr id="89" name="Picture 8" descr="afdo_logo.png"/>
            <p:cNvPicPr/>
            <p:nvPr/>
          </p:nvPicPr>
          <p:blipFill>
            <a:blip r:embed="rId1"/>
            <a:stretch/>
          </p:blipFill>
          <p:spPr>
            <a:xfrm>
              <a:off x="179280" y="5926680"/>
              <a:ext cx="1152000" cy="887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0" name="Group 6"/>
            <p:cNvGrpSpPr/>
            <p:nvPr/>
          </p:nvGrpSpPr>
          <p:grpSpPr>
            <a:xfrm>
              <a:off x="7740360" y="5854680"/>
              <a:ext cx="4024440" cy="936000"/>
              <a:chOff x="7740360" y="5854680"/>
              <a:chExt cx="4024440" cy="936000"/>
            </a:xfrm>
          </p:grpSpPr>
          <p:pic>
            <p:nvPicPr>
              <p:cNvPr id="91" name="Picture 2" descr="adde logo full.jpg"/>
              <p:cNvPicPr/>
              <p:nvPr/>
            </p:nvPicPr>
            <p:blipFill>
              <a:blip r:embed="rId2"/>
              <a:stretch/>
            </p:blipFill>
            <p:spPr>
              <a:xfrm>
                <a:off x="7740360" y="6022800"/>
                <a:ext cx="3930840" cy="710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2" name="Rectangle 8"/>
              <p:cNvSpPr/>
              <p:nvPr/>
            </p:nvSpPr>
            <p:spPr>
              <a:xfrm>
                <a:off x="8956440" y="5854680"/>
                <a:ext cx="2808360" cy="936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93" name="Picture 2" descr="JSA_Logo.jpg"/>
          <p:cNvPicPr/>
          <p:nvPr/>
        </p:nvPicPr>
        <p:blipFill>
          <a:blip r:embed="rId3"/>
          <a:stretch/>
        </p:blipFill>
        <p:spPr>
          <a:xfrm rot="868800">
            <a:off x="5905080" y="3623760"/>
            <a:ext cx="1773360" cy="16812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3" descr="DES-Logo1.gif"/>
          <p:cNvPicPr/>
          <p:nvPr/>
        </p:nvPicPr>
        <p:blipFill>
          <a:blip r:embed="rId4"/>
          <a:stretch/>
        </p:blipFill>
        <p:spPr>
          <a:xfrm>
            <a:off x="971640" y="3357720"/>
            <a:ext cx="3173400" cy="24145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4" descr="NDRC logo.png"/>
          <p:cNvPicPr/>
          <p:nvPr/>
        </p:nvPicPr>
        <p:blipFill>
          <a:blip r:embed="rId5"/>
          <a:stretch/>
        </p:blipFill>
        <p:spPr>
          <a:xfrm rot="568200">
            <a:off x="1284120" y="1417320"/>
            <a:ext cx="2540160" cy="17272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5" descr="JobAccess logo.png"/>
          <p:cNvPicPr/>
          <p:nvPr/>
        </p:nvPicPr>
        <p:blipFill>
          <a:blip r:embed="rId6"/>
          <a:stretch/>
        </p:blipFill>
        <p:spPr>
          <a:xfrm rot="21195000">
            <a:off x="4601880" y="1882800"/>
            <a:ext cx="3400200" cy="81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0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6" presetSubtype="16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0" nodeType="afterEffect" fill="hold" presetClass="entr" presetID="14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4" nodeType="afterEffect" fill="hold" presetClass="entr" presetID="18" presetSubtype="12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8" nodeType="afterEffect" fill="hold" presetClass="entr" presetID="3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"/>
          <p:cNvSpPr/>
          <p:nvPr/>
        </p:nvSpPr>
        <p:spPr>
          <a:xfrm>
            <a:off x="0" y="0"/>
            <a:ext cx="9144000" cy="14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000" spc="-1" strike="noStrike">
                <a:solidFill>
                  <a:srgbClr val="3b8a74"/>
                </a:solidFill>
                <a:latin typeface="Abadi MT Condensed Extra Bold"/>
              </a:rPr>
              <a:t>Supports Available to Employers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Group 4"/>
          <p:cNvGrpSpPr/>
          <p:nvPr/>
        </p:nvGrpSpPr>
        <p:grpSpPr>
          <a:xfrm>
            <a:off x="179280" y="5854680"/>
            <a:ext cx="11585520" cy="959040"/>
            <a:chOff x="179280" y="5854680"/>
            <a:chExt cx="11585520" cy="959040"/>
          </a:xfrm>
        </p:grpSpPr>
        <p:pic>
          <p:nvPicPr>
            <p:cNvPr id="99" name="Picture 8" descr="afdo_logo.png"/>
            <p:cNvPicPr/>
            <p:nvPr/>
          </p:nvPicPr>
          <p:blipFill>
            <a:blip r:embed="rId1"/>
            <a:stretch/>
          </p:blipFill>
          <p:spPr>
            <a:xfrm>
              <a:off x="179280" y="5926680"/>
              <a:ext cx="1152000" cy="887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0" name="Group 6"/>
            <p:cNvGrpSpPr/>
            <p:nvPr/>
          </p:nvGrpSpPr>
          <p:grpSpPr>
            <a:xfrm>
              <a:off x="7740360" y="5854680"/>
              <a:ext cx="4024440" cy="936000"/>
              <a:chOff x="7740360" y="5854680"/>
              <a:chExt cx="4024440" cy="936000"/>
            </a:xfrm>
          </p:grpSpPr>
          <p:pic>
            <p:nvPicPr>
              <p:cNvPr id="101" name="Picture 2" descr="adde logo full.jpg"/>
              <p:cNvPicPr/>
              <p:nvPr/>
            </p:nvPicPr>
            <p:blipFill>
              <a:blip r:embed="rId2"/>
              <a:stretch/>
            </p:blipFill>
            <p:spPr>
              <a:xfrm>
                <a:off x="7740360" y="6022800"/>
                <a:ext cx="3930840" cy="710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2" name="Rectangle 8"/>
              <p:cNvSpPr/>
              <p:nvPr/>
            </p:nvSpPr>
            <p:spPr>
              <a:xfrm>
                <a:off x="8956440" y="5854680"/>
                <a:ext cx="2808360" cy="936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03" name="Picture 3" descr="DES-Logo1.gif"/>
          <p:cNvPicPr/>
          <p:nvPr/>
        </p:nvPicPr>
        <p:blipFill>
          <a:blip r:embed="rId3"/>
          <a:stretch/>
        </p:blipFill>
        <p:spPr>
          <a:xfrm>
            <a:off x="971640" y="3357720"/>
            <a:ext cx="3173400" cy="24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0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1.38889E-006 7.40741E-007 C 0.00208 0.01157 0.0059 0.02917 0.00955 0.03889 C 0.01319 0.04792 0.01927 0.05093 0.02465 0.05555 C 0.02951 0.05972 0.03229 0.06528 0.03663 0.07037 C 0.04288 0.07755 0.05295 0.07824 0.06024 0.07963 C 0.08507 0.07755 0.10208 0.08264 0.12274 0.06852 C 0.12951 0.05671 0.13715 0.04444 0.14548 0.03518 C 0.14774 0.02315 0.15486 0.01528 0.15833 0.0037 C 0.16354 -0.01482 0.16562 -0.0338 0.16805 -0.0537 C 0.16719 -0.08773 0.16927 -0.12616 0.15625 -0.1537 C 0.14896 -0.16898 0.14201 -0.17454 0.13246 -0.18333 C 0.13055 -0.18519 0.12899 -0.1875 0.12708 -0.18889 C 0.125 -0.19051 0.12066 -0.19259 0.12066 -0.19236 C 0.10573 -0.1912 0.08958 -0.18935 0.07864 -0.17037 C 0.07691 -0.16181 0.07413 -0.1537 0.07101 -0.1463 C 0.06753 -0.12847 0.06667 -0.12245 0.06562 -0.10185 C 0.06701 -0.08403 0.0684 -0.05139 0.07743 -0.03704 C 0.09635 -0.00787 0.07969 -0.03333 0.08941 -0.02407 C 0.09149 -0.02199 0.09323 -0.01782 0.09583 -0.01667 C 0.10642 -0.01227 0.11736 -0.01157 0.12812 -0.00926 C 0.14601 -0.00995 0.16406 -0.00949 0.18212 -0.01111 C 0.18871 -0.01181 0.1993 -0.03449 0.20364 -0.04259 C 0.20555 -0.04653 0.21007 -0.0537 0.21007 -0.05347 C 0.21233 -0.07037 0.21944 -0.08866 0.21979 -0.10556 C 0.22014 -0.12593 0.21979 -0.1463 0.21979 -0.16667 E">
                                      <p:cBhvr>
                                        <p:cTn id="39" dur="3000" fill="hold"/>
                                        <p:tgtEl>
                                          <p:spTgt spid="1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2"/>
          <p:cNvSpPr/>
          <p:nvPr/>
        </p:nvSpPr>
        <p:spPr>
          <a:xfrm>
            <a:off x="0" y="0"/>
            <a:ext cx="9144000" cy="14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000" spc="-1" strike="noStrike">
                <a:solidFill>
                  <a:srgbClr val="3b8a74"/>
                </a:solidFill>
                <a:latin typeface="Abadi MT Condensed Extra Bold"/>
              </a:rPr>
              <a:t>Case Studies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Group 4"/>
          <p:cNvGrpSpPr/>
          <p:nvPr/>
        </p:nvGrpSpPr>
        <p:grpSpPr>
          <a:xfrm>
            <a:off x="179280" y="5854680"/>
            <a:ext cx="11585520" cy="959040"/>
            <a:chOff x="179280" y="5854680"/>
            <a:chExt cx="11585520" cy="959040"/>
          </a:xfrm>
        </p:grpSpPr>
        <p:pic>
          <p:nvPicPr>
            <p:cNvPr id="106" name="Picture 8" descr="afdo_logo.png"/>
            <p:cNvPicPr/>
            <p:nvPr/>
          </p:nvPicPr>
          <p:blipFill>
            <a:blip r:embed="rId1"/>
            <a:stretch/>
          </p:blipFill>
          <p:spPr>
            <a:xfrm>
              <a:off x="179280" y="5926680"/>
              <a:ext cx="1152000" cy="887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7" name="Group 6"/>
            <p:cNvGrpSpPr/>
            <p:nvPr/>
          </p:nvGrpSpPr>
          <p:grpSpPr>
            <a:xfrm>
              <a:off x="7740360" y="5854680"/>
              <a:ext cx="4024440" cy="936000"/>
              <a:chOff x="7740360" y="5854680"/>
              <a:chExt cx="4024440" cy="936000"/>
            </a:xfrm>
          </p:grpSpPr>
          <p:pic>
            <p:nvPicPr>
              <p:cNvPr id="108" name="Picture 2" descr="adde logo full.jpg"/>
              <p:cNvPicPr/>
              <p:nvPr/>
            </p:nvPicPr>
            <p:blipFill>
              <a:blip r:embed="rId2"/>
              <a:stretch/>
            </p:blipFill>
            <p:spPr>
              <a:xfrm>
                <a:off x="7740360" y="6022800"/>
                <a:ext cx="3930840" cy="710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9" name="Rectangle 8"/>
              <p:cNvSpPr/>
              <p:nvPr/>
            </p:nvSpPr>
            <p:spPr>
              <a:xfrm>
                <a:off x="8956440" y="5854680"/>
                <a:ext cx="2808360" cy="936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10" name="Picture 1" descr="dishwashing.jpg"/>
          <p:cNvPicPr/>
          <p:nvPr/>
        </p:nvPicPr>
        <p:blipFill>
          <a:blip r:embed="rId3"/>
          <a:stretch/>
        </p:blipFill>
        <p:spPr>
          <a:xfrm rot="201000">
            <a:off x="311040" y="971640"/>
            <a:ext cx="2211480" cy="21160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11" name="Picture 2" descr="gardening.jpg"/>
          <p:cNvPicPr/>
          <p:nvPr/>
        </p:nvPicPr>
        <p:blipFill>
          <a:blip r:embed="rId4"/>
          <a:stretch/>
        </p:blipFill>
        <p:spPr>
          <a:xfrm rot="21434400">
            <a:off x="2601720" y="1565280"/>
            <a:ext cx="3390840" cy="1979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12" name="Picture 3" descr="hi vis vest.jpg"/>
          <p:cNvPicPr/>
          <p:nvPr/>
        </p:nvPicPr>
        <p:blipFill>
          <a:blip r:embed="rId5"/>
          <a:stretch/>
        </p:blipFill>
        <p:spPr>
          <a:xfrm rot="262200">
            <a:off x="6157800" y="1080720"/>
            <a:ext cx="2713320" cy="20480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13" name="Picture 6" descr="woman at desk.jpg"/>
          <p:cNvPicPr/>
          <p:nvPr/>
        </p:nvPicPr>
        <p:blipFill>
          <a:blip r:embed="rId6"/>
          <a:stretch/>
        </p:blipFill>
        <p:spPr>
          <a:xfrm rot="21447600">
            <a:off x="5594400" y="3855600"/>
            <a:ext cx="3166920" cy="1776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14" name="Picture 4" descr="men packing .jpg"/>
          <p:cNvPicPr/>
          <p:nvPr/>
        </p:nvPicPr>
        <p:blipFill>
          <a:blip r:embed="rId7"/>
          <a:stretch/>
        </p:blipFill>
        <p:spPr>
          <a:xfrm rot="211200">
            <a:off x="3187800" y="4441680"/>
            <a:ext cx="2992320" cy="19242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15" name="Picture 5" descr="sign language.jpg"/>
          <p:cNvPicPr/>
          <p:nvPr/>
        </p:nvPicPr>
        <p:blipFill>
          <a:blip r:embed="rId8"/>
          <a:stretch/>
        </p:blipFill>
        <p:spPr>
          <a:xfrm rot="184800">
            <a:off x="296640" y="3870360"/>
            <a:ext cx="3095640" cy="1781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21:38:35Z</dcterms:created>
  <dc:creator>gcrawford</dc:creator>
  <dc:description/>
  <dc:language>en-US</dc:language>
  <cp:lastModifiedBy>geoff</cp:lastModifiedBy>
  <dcterms:modified xsi:type="dcterms:W3CDTF">2013-04-01T22:36:20Z</dcterms:modified>
  <cp:revision>161</cp:revision>
  <dc:subject/>
  <dc:title>Australians for Disability and Diversity Employment</dc:title>
</cp:coreProperties>
</file>