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3E6E-230F-46C2-A8FA-522039AE6AA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D53-71F6-4CAE-B52D-D668E5DD33C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5995-192F-48F8-8219-A30D8EEF4A2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096-82F0-487F-B1E3-CED8365D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0C8-AFB9-4E6B-83DC-9FEE90C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249-B663-4E7B-9493-5691E9CB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529-95AC-4D1E-B3C0-4085DB8F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7D8-0B51-48C5-9362-215ABD51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6A7-CC29-4C90-B445-CB3A6FB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65E-8808-41BA-92F2-5DED6765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98C-F10D-400F-ACD7-BE23B1D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D84-99C4-48A3-BA38-41DB0B2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676-41D9-4782-A835-09394C6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DD8-8BEC-4B04-9333-317E011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EEE-3896-4002-8A70-1036C47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9A3-2B76-4B75-8495-476180BAC302}" type="slidenum">
              <a:rPr b="1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3b8a74"/>
                </a:solidFill>
                <a:latin typeface="Abadi MT Condensed Extra Bold"/>
              </a:rPr>
              <a:t>Disability Employment: Partnering for Succe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3348000" y="4724280"/>
            <a:ext cx="2664000" cy="1773360"/>
            <a:chOff x="3348000" y="4724280"/>
            <a:chExt cx="2664000" cy="1773360"/>
          </a:xfrm>
        </p:grpSpPr>
        <p:pic>
          <p:nvPicPr>
            <p:cNvPr id="50" name="Picture 6" descr="deewr-logo.jpg"/>
            <p:cNvPicPr/>
            <p:nvPr/>
          </p:nvPicPr>
          <p:blipFill>
            <a:blip r:embed="rId1"/>
            <a:stretch/>
          </p:blipFill>
          <p:spPr>
            <a:xfrm>
              <a:off x="3348000" y="4938480"/>
              <a:ext cx="2664000" cy="15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5"/>
            <p:cNvSpPr/>
            <p:nvPr/>
          </p:nvSpPr>
          <p:spPr>
            <a:xfrm>
              <a:off x="3348000" y="4724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udly supported b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" descr="AFDO Logo inc text - Colour.JPG"/>
          <p:cNvPicPr/>
          <p:nvPr/>
        </p:nvPicPr>
        <p:blipFill>
          <a:blip r:embed="rId2"/>
          <a:stretch/>
        </p:blipFill>
        <p:spPr>
          <a:xfrm>
            <a:off x="324000" y="260280"/>
            <a:ext cx="3706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adde-logo-hires.jpg"/>
          <p:cNvPicPr/>
          <p:nvPr/>
        </p:nvPicPr>
        <p:blipFill>
          <a:blip r:embed="rId3"/>
          <a:stretch/>
        </p:blipFill>
        <p:spPr>
          <a:xfrm>
            <a:off x="4067280" y="549360"/>
            <a:ext cx="4911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Case Studie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18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20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Box 7"/>
          <p:cNvSpPr/>
          <p:nvPr/>
        </p:nvSpPr>
        <p:spPr>
          <a:xfrm>
            <a:off x="539640" y="1341360"/>
            <a:ext cx="8209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benefits do you see in the case study that might be relevant to your own workplac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appropriate support gained from DES in this case study? If not, what support could have occurred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deas could you take from this case study to use in your workplac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ould be the blockers in your workplace to achieving succes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could you overcome those blocker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steps could you take to improve the accessibility of your workplace to people with disability?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Reflectio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25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27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" name="Picture 1" descr="im an accountant.gif"/>
          <p:cNvPicPr/>
          <p:nvPr/>
        </p:nvPicPr>
        <p:blipFill>
          <a:blip r:embed="rId3"/>
          <a:stretch/>
        </p:blipFill>
        <p:spPr>
          <a:xfrm>
            <a:off x="1547640" y="1197000"/>
            <a:ext cx="60487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Action Planning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32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34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979640" y="1268280"/>
            <a:ext cx="53290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Thank You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3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4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Box 2"/>
          <p:cNvSpPr/>
          <p:nvPr/>
        </p:nvSpPr>
        <p:spPr>
          <a:xfrm>
            <a:off x="684360" y="155736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acts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F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afdo.org.a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03 9662 3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D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www.adde.org.a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03 9662 3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S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jobsearch.gov.au/provid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onegroupid.com.au/resour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dback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ease complete and hand in the Feedback Sheets before yo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m participating in this workshop, you wi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prove your understanding of the benefits of employing people with di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prove your understanding of the resources available to support you and your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dentify some clear actions to implement within your work are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Workshop Aim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79280" y="5805360"/>
            <a:ext cx="11585520" cy="959040"/>
            <a:chOff x="179280" y="5805360"/>
            <a:chExt cx="11585520" cy="959040"/>
          </a:xfrm>
        </p:grpSpPr>
        <p:pic>
          <p:nvPicPr>
            <p:cNvPr id="57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87736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9"/>
            <p:cNvGrpSpPr/>
            <p:nvPr/>
          </p:nvGrpSpPr>
          <p:grpSpPr>
            <a:xfrm>
              <a:off x="7740360" y="5805360"/>
              <a:ext cx="4024440" cy="936000"/>
              <a:chOff x="7740360" y="5805360"/>
              <a:chExt cx="4024440" cy="936000"/>
            </a:xfrm>
          </p:grpSpPr>
          <p:pic>
            <p:nvPicPr>
              <p:cNvPr id="59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597348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Rectangle 8"/>
              <p:cNvSpPr/>
              <p:nvPr/>
            </p:nvSpPr>
            <p:spPr>
              <a:xfrm>
                <a:off x="8956440" y="580536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About U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755640" y="1471680"/>
            <a:ext cx="4037760" cy="1924200"/>
            <a:chOff x="755640" y="1471680"/>
            <a:chExt cx="4037760" cy="1924200"/>
          </a:xfrm>
        </p:grpSpPr>
        <p:pic>
          <p:nvPicPr>
            <p:cNvPr id="63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755640" y="1471680"/>
              <a:ext cx="2063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9"/>
            <p:cNvSpPr/>
            <p:nvPr/>
          </p:nvSpPr>
          <p:spPr>
            <a:xfrm>
              <a:off x="1520280" y="2997360"/>
              <a:ext cx="3273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7fc5b3"/>
                  </a:solidFill>
                  <a:latin typeface="Trebuchet MS"/>
                </a:rPr>
                <a:t>Australian Federation of Disability </a:t>
              </a:r>
              <a:r>
                <a:rPr b="1" lang="en-AU" sz="1000" spc="-1" strike="noStrike">
                  <a:solidFill>
                    <a:srgbClr val="7fc5b3"/>
                  </a:solidFill>
                  <a:latin typeface="Trebuchet MS"/>
                </a:rPr>
                <a:t>Organisatio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6" descr="deewr-logo.jpg"/>
          <p:cNvPicPr/>
          <p:nvPr/>
        </p:nvPicPr>
        <p:blipFill>
          <a:blip r:embed="rId2"/>
          <a:stretch/>
        </p:blipFill>
        <p:spPr>
          <a:xfrm>
            <a:off x="5580000" y="1739880"/>
            <a:ext cx="2887560" cy="168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adde-logo-hires.jpg"/>
          <p:cNvPicPr/>
          <p:nvPr/>
        </p:nvPicPr>
        <p:blipFill>
          <a:blip r:embed="rId3"/>
          <a:stretch/>
        </p:blipFill>
        <p:spPr>
          <a:xfrm>
            <a:off x="1979640" y="4567320"/>
            <a:ext cx="53290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Barriers to Employmen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6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7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3" name="Picture 2" descr="UD-Testing-Cartoon.jpg"/>
          <p:cNvPicPr/>
          <p:nvPr/>
        </p:nvPicPr>
        <p:blipFill>
          <a:blip r:embed="rId3"/>
          <a:stretch/>
        </p:blipFill>
        <p:spPr>
          <a:xfrm>
            <a:off x="971640" y="1123920"/>
            <a:ext cx="7089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75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77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" name="Clip from Talk by the Disability Rights Commission (UK) for Windows.wmv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26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The Business Imperativ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82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84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Picture 2" descr="need a ramp.gif"/>
          <p:cNvPicPr/>
          <p:nvPr/>
        </p:nvPicPr>
        <p:blipFill>
          <a:blip r:embed="rId3"/>
          <a:stretch/>
        </p:blipFill>
        <p:spPr>
          <a:xfrm>
            <a:off x="1908000" y="1125360"/>
            <a:ext cx="52563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Supports Available to Employ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8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9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3" name="Picture 2" descr="JSA_Logo.jpg"/>
          <p:cNvPicPr/>
          <p:nvPr/>
        </p:nvPicPr>
        <p:blipFill>
          <a:blip r:embed="rId3"/>
          <a:stretch/>
        </p:blipFill>
        <p:spPr>
          <a:xfrm rot="868800">
            <a:off x="5905080" y="3623760"/>
            <a:ext cx="1773360" cy="168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ES-Logo1.gif"/>
          <p:cNvPicPr/>
          <p:nvPr/>
        </p:nvPicPr>
        <p:blipFill>
          <a:blip r:embed="rId4"/>
          <a:stretch/>
        </p:blipFill>
        <p:spPr>
          <a:xfrm>
            <a:off x="971640" y="3357720"/>
            <a:ext cx="3173400" cy="241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NDRC logo.png"/>
          <p:cNvPicPr/>
          <p:nvPr/>
        </p:nvPicPr>
        <p:blipFill>
          <a:blip r:embed="rId5"/>
          <a:stretch/>
        </p:blipFill>
        <p:spPr>
          <a:xfrm rot="568200">
            <a:off x="1284120" y="1417320"/>
            <a:ext cx="254016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JobAccess logo.png"/>
          <p:cNvPicPr/>
          <p:nvPr/>
        </p:nvPicPr>
        <p:blipFill>
          <a:blip r:embed="rId6"/>
          <a:stretch/>
        </p:blipFill>
        <p:spPr>
          <a:xfrm rot="21195000">
            <a:off x="4601880" y="1882800"/>
            <a:ext cx="34002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8" presetSubtype="1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Supports Available to Employ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9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0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Picture 3" descr="DES-Logo1.gif"/>
          <p:cNvPicPr/>
          <p:nvPr/>
        </p:nvPicPr>
        <p:blipFill>
          <a:blip r:embed="rId3"/>
          <a:stretch/>
        </p:blipFill>
        <p:spPr>
          <a:xfrm>
            <a:off x="971640" y="3357720"/>
            <a:ext cx="31734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7.40741E-007 C 0.00208 0.01157 0.0059 0.02917 0.00955 0.03889 C 0.01319 0.04792 0.01927 0.05093 0.02465 0.05555 C 0.02951 0.05972 0.03229 0.06528 0.03663 0.07037 C 0.04288 0.07755 0.05295 0.07824 0.06024 0.07963 C 0.08507 0.07755 0.10208 0.08264 0.12274 0.06852 C 0.12951 0.05671 0.13715 0.04444 0.14548 0.03518 C 0.14774 0.02315 0.15486 0.01528 0.15833 0.0037 C 0.16354 -0.01482 0.16562 -0.0338 0.16805 -0.0537 C 0.16719 -0.08773 0.16927 -0.12616 0.15625 -0.1537 C 0.14896 -0.16898 0.14201 -0.17454 0.13246 -0.18333 C 0.13055 -0.18519 0.12899 -0.1875 0.12708 -0.18889 C 0.125 -0.19051 0.12066 -0.19259 0.12066 -0.19236 C 0.10573 -0.1912 0.08958 -0.18935 0.07864 -0.17037 C 0.07691 -0.16181 0.07413 -0.1537 0.07101 -0.1463 C 0.06753 -0.12847 0.06667 -0.12245 0.06562 -0.10185 C 0.06701 -0.08403 0.0684 -0.05139 0.07743 -0.03704 C 0.09635 -0.00787 0.07969 -0.03333 0.08941 -0.02407 C 0.09149 -0.02199 0.09323 -0.01782 0.09583 -0.01667 C 0.10642 -0.01227 0.11736 -0.01157 0.12812 -0.00926 C 0.14601 -0.00995 0.16406 -0.00949 0.18212 -0.01111 C 0.18871 -0.01181 0.1993 -0.03449 0.20364 -0.04259 C 0.20555 -0.04653 0.21007 -0.0537 0.21007 -0.05347 C 0.21233 -0.07037 0.21944 -0.08866 0.21979 -0.10556 C 0.22014 -0.12593 0.21979 -0.1463 0.21979 -0.16667 E">
                                      <p:cBhvr>
                                        <p:cTn id="39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Case Studie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06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08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1" descr="dishwashing.jpg"/>
          <p:cNvPicPr/>
          <p:nvPr/>
        </p:nvPicPr>
        <p:blipFill>
          <a:blip r:embed="rId3"/>
          <a:stretch/>
        </p:blipFill>
        <p:spPr>
          <a:xfrm rot="201000">
            <a:off x="311040" y="971640"/>
            <a:ext cx="22114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2" descr="gardening.jpg"/>
          <p:cNvPicPr/>
          <p:nvPr/>
        </p:nvPicPr>
        <p:blipFill>
          <a:blip r:embed="rId4"/>
          <a:stretch/>
        </p:blipFill>
        <p:spPr>
          <a:xfrm rot="21434400">
            <a:off x="2601720" y="1565280"/>
            <a:ext cx="33908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3" descr="hi vis vest.jpg"/>
          <p:cNvPicPr/>
          <p:nvPr/>
        </p:nvPicPr>
        <p:blipFill>
          <a:blip r:embed="rId5"/>
          <a:stretch/>
        </p:blipFill>
        <p:spPr>
          <a:xfrm rot="262200">
            <a:off x="6157800" y="1080720"/>
            <a:ext cx="2713320" cy="204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6" descr="woman at desk.jpg"/>
          <p:cNvPicPr/>
          <p:nvPr/>
        </p:nvPicPr>
        <p:blipFill>
          <a:blip r:embed="rId6"/>
          <a:stretch/>
        </p:blipFill>
        <p:spPr>
          <a:xfrm rot="21447600">
            <a:off x="5594400" y="3855600"/>
            <a:ext cx="3166920" cy="17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Picture 4" descr="men packing .jpg"/>
          <p:cNvPicPr/>
          <p:nvPr/>
        </p:nvPicPr>
        <p:blipFill>
          <a:blip r:embed="rId7"/>
          <a:stretch/>
        </p:blipFill>
        <p:spPr>
          <a:xfrm rot="211200">
            <a:off x="3187800" y="4441680"/>
            <a:ext cx="2992320" cy="19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Picture 5" descr="sign language.jpg"/>
          <p:cNvPicPr/>
          <p:nvPr/>
        </p:nvPicPr>
        <p:blipFill>
          <a:blip r:embed="rId8"/>
          <a:stretch/>
        </p:blipFill>
        <p:spPr>
          <a:xfrm rot="184800">
            <a:off x="296640" y="3870360"/>
            <a:ext cx="3095640" cy="17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8:35Z</dcterms:created>
  <dc:creator>gcrawford</dc:creator>
  <dc:description/>
  <dc:language>en-US</dc:language>
  <cp:lastModifiedBy>geoff</cp:lastModifiedBy>
  <dcterms:modified xsi:type="dcterms:W3CDTF">2013-04-01T22:36:20Z</dcterms:modified>
  <cp:revision>161</cp:revision>
  <dc:subject/>
  <dc:title>Australians for Disability and Diversity Employment</dc:title>
</cp:coreProperties>
</file>